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92EF-87BF-468C-B685-CFAC50650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D36F-9626-4C6C-AFCC-1D6DEB06C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57AB-7BB9-4946-9A8C-906B6ABC5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D296-29F8-4B5F-80DB-3F119CB83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3E8D-117E-43DF-B991-E30508FE5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D7A8-615C-4B24-8529-227D6A3FD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A2A2-82E7-4ABE-9DBE-0FBC0A50E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E6F1-931E-4024-AA97-D48FE6B9E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9336-A8A5-4FD5-AC4C-F4602497B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8DB7-E41C-4603-858A-AC9260BD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5F7C-6D4B-4719-84D8-2D000E0D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1E3D-AB8F-4BDD-BA28-6D1629BE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E7EB5-E8D9-4645-9C93-B245EFACF5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9576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ffffff"/>
                </a:solidFill>
                <a:latin typeface="Times New Roman"/>
              </a:rPr>
              <a:t>Fisiopatologia </a:t>
            </a:r>
            <a:br>
              <a:rPr sz="6000"/>
            </a:br>
            <a:r>
              <a:rPr b="0" lang="it-IT" sz="6000" spc="-1" strike="noStrike">
                <a:solidFill>
                  <a:srgbClr val="ffffff"/>
                </a:solidFill>
                <a:latin typeface="Times New Roman"/>
              </a:rPr>
              <a:t>respiratoria.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765360" cy="85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Times New Roman"/>
              </a:rPr>
              <a:t>I volumi polmonari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Capacità polmonare totale  = CPT o TLC*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Capacità vitale = CV o VC*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Volume residuo = VR o RV*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Volume corrente = VC o TV*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Capacità funzionale residua = CFR o FRC*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Volume di riserva espiratorio = VRE o ERV*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Volume di riserva inpiratorio = VRI o IRV*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Capacità inspiratoria = CI o IC*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Il volume espiratorio massimo/secondo = VEMS o FEV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__________________________________________________________________________________________________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* Terminologia anglosasso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76536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Times New Roman"/>
              </a:rPr>
              <a:t>SUDDIVISIONE CLASSICA DEI VOLUMI POLMONARI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8001000" cy="4379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3" name=""/>
          <p:cNvSpPr/>
          <p:nvPr/>
        </p:nvSpPr>
        <p:spPr>
          <a:xfrm>
            <a:off x="380880" y="3773520"/>
            <a:ext cx="1067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Capacità polmonare tota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52480" y="3278160"/>
            <a:ext cx="914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Capacità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vita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548640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Volume residu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971800" y="4800600"/>
            <a:ext cx="99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Capacità funzionale residu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62520" y="4992840"/>
            <a:ext cx="1143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Volume di riserva espirator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396252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Volume corren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90920" y="299880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Capacità inspirato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86200" y="2173320"/>
            <a:ext cx="1143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Volume di riserva inspirator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38680" y="548640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Volume residu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76536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Times New Roman"/>
              </a:rPr>
              <a:t>Il volume espiratorio massimo al 1° secondo = VEMS o FEV</a:t>
            </a:r>
            <a:r>
              <a:rPr b="0" lang="it-IT" sz="4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438280" y="1828800"/>
            <a:ext cx="4496040" cy="4327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85" name=""/>
          <p:cNvSpPr/>
          <p:nvPr/>
        </p:nvSpPr>
        <p:spPr>
          <a:xfrm rot="16200000">
            <a:off x="4287240" y="2948400"/>
            <a:ext cx="13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FEV</a:t>
            </a:r>
            <a:r>
              <a:rPr b="1" lang="it-IT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76536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Times New Roman"/>
              </a:rPr>
              <a:t>La curva flusso/volume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974880" y="1295280"/>
            <a:ext cx="6568920" cy="5375160"/>
            <a:chOff x="974880" y="1295280"/>
            <a:chExt cx="6568920" cy="537516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1835280" y="1295280"/>
              <a:ext cx="5708520" cy="487656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sp>
          <p:nvSpPr>
            <p:cNvPr id="90" name=""/>
            <p:cNvSpPr/>
            <p:nvPr/>
          </p:nvSpPr>
          <p:spPr>
            <a:xfrm>
              <a:off x="1835280" y="2136600"/>
              <a:ext cx="1568160" cy="307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ffff"/>
                  </a:solidFill>
                  <a:latin typeface="Times New Roman"/>
                </a:rPr>
                <a:t>ESPIRAZION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35280" y="3590640"/>
              <a:ext cx="1238040" cy="307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ffff"/>
                  </a:solidFill>
                  <a:latin typeface="Times New Roman"/>
                </a:rPr>
                <a:t>FLUSS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835280" y="4736880"/>
              <a:ext cx="1650960" cy="307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ffff"/>
                  </a:solidFill>
                  <a:latin typeface="Times New Roman"/>
                </a:rPr>
                <a:t>INSPIRAZION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501800" y="1371240"/>
              <a:ext cx="1732320" cy="307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ffff"/>
                  </a:solidFill>
                  <a:latin typeface="Times New Roman"/>
                </a:rPr>
                <a:t>PICCO DI FLUSS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3885840" y="1447560"/>
              <a:ext cx="609480" cy="76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045320" y="5638680"/>
              <a:ext cx="1262880" cy="3070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ffff"/>
                  </a:solidFill>
                  <a:latin typeface="Times New Roman"/>
                </a:rPr>
                <a:t>VOLUME (L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560280" y="2590560"/>
              <a:ext cx="436680" cy="3070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ffff"/>
                  </a:solidFill>
                  <a:latin typeface="Times New Roman"/>
                </a:rPr>
                <a:t>RV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740760" y="2809800"/>
              <a:ext cx="546480" cy="3070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ffff"/>
                  </a:solidFill>
                  <a:latin typeface="Times New Roman"/>
                </a:rPr>
                <a:t>TL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040720" y="1895400"/>
              <a:ext cx="1113480" cy="307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ffff"/>
                  </a:solidFill>
                  <a:latin typeface="Times New Roman"/>
                </a:rPr>
                <a:t>FEF25-75%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79440" y="62132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974880" y="613692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814400" y="6324480"/>
              <a:ext cx="5691600" cy="307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ffff"/>
                  </a:solidFill>
                  <a:latin typeface="Times New Roman"/>
                </a:rPr>
                <a:t>FEF25-75% = Flusso espiratorio forzato al 25-75% della capacità vitale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 flipH="1">
            <a:off x="5028840" y="2209680"/>
            <a:ext cx="228600" cy="1526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419720" y="1904760"/>
            <a:ext cx="152280" cy="152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334120" y="2742840"/>
            <a:ext cx="152280" cy="152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76536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Times New Roman"/>
              </a:rPr>
              <a:t>Tre quesiti pratici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I TEST DI USO CORRENTE NELLA VALUTAZIONE DELLA FUNZIONE RESPIRATORI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Quando chiederli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Quali chiede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Come interpretarli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76536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Times New Roman"/>
              </a:rPr>
              <a:t>Quando chiedere i test funzionali respiratori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cc33"/>
                </a:solidFill>
                <a:latin typeface="Arial"/>
              </a:rPr>
              <a:t>DIAGNOS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9900"/>
                </a:solidFill>
                <a:latin typeface="Arial"/>
              </a:rPr>
              <a:t>PROGNOS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TERAPIA</a:t>
            </a:r>
            <a:r>
              <a:rPr b="1" lang="it-IT" sz="2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819520" y="2057400"/>
            <a:ext cx="5790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75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studio di sintomi / segni clinici (dispnea, tosse, poliglobulia,   cianosi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75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indagini per condizioni di rischio respiratorio</a:t>
            </a:r>
            <a:r>
              <a:rPr b="1" lang="it-IT" sz="16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(esposizione a polveri, fumi, fumo attivo / passivo)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75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studio di danno in patologie accerta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75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indagini di idoneità sportiv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75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indagini medico-legali, di invalidit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75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studio evolutivo di danno</a:t>
            </a:r>
            <a:r>
              <a:rPr b="1" lang="it-IT" sz="16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(terapie, riabilitazion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75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efficacia terapeut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75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monitoragg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75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valutazione preoperato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1905120"/>
            <a:ext cx="8458200" cy="182880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3835440"/>
            <a:ext cx="8458200" cy="10666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5016600"/>
            <a:ext cx="84582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76536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Times New Roman"/>
              </a:rPr>
              <a:t>Quali test chiedere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Indagini specialistiche di 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Times New Roman"/>
              </a:rPr>
              <a:t>Volumi polmona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Times New Roman"/>
              </a:rPr>
              <a:t>Capacità polmona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Times New Roman"/>
              </a:rPr>
              <a:t>Test dinamic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Times New Roman"/>
              </a:rPr>
              <a:t>Pulsiossimet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Times New Roman"/>
              </a:rPr>
              <a:t>Emogasanalisi arterio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24280" y="1905120"/>
            <a:ext cx="4038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Indagini specialistiche mirate a particolari aspetti funzional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Times New Roman"/>
              </a:rPr>
              <a:t>Test di broncodilatazi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Times New Roman"/>
              </a:rPr>
              <a:t>Test di broncoreattivit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Times New Roman"/>
              </a:rPr>
              <a:t>Transfer del 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Times New Roman"/>
              </a:rPr>
              <a:t>Studio funzionale sotto sforz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Times New Roman"/>
              </a:rPr>
              <a:t>Polisonnograf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76536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Times New Roman"/>
              </a:rPr>
              <a:t>INTERPRETAZIONE DEI DATI SPIROMETRICI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8560" y="2098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Identificati i limiti di normalità, la spiromet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ff00"/>
                </a:solidFill>
                <a:latin typeface="Arial"/>
              </a:rPr>
              <a:t>fornis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*  dati qualitativi: tipo di sindrome respirato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dati quantitativi: scala di graduazione del danno rilevat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76536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Times New Roman"/>
              </a:rPr>
              <a:t>INTERPRETAZIONE DEI PARAMETRI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Times New Roman"/>
              </a:rPr>
              <a:t>Alterazione funzionale ostruttiv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- FEV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valuta la severità dell’ostruzione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Times New Roman"/>
              </a:rPr>
              <a:t>FEV</a:t>
            </a:r>
            <a:r>
              <a:rPr b="0" lang="it-IT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it-IT" sz="2400" spc="-1" strike="noStrike">
                <a:solidFill>
                  <a:srgbClr val="00ff00"/>
                </a:solidFill>
                <a:latin typeface="Times New Roman"/>
              </a:rPr>
              <a:t>/CV distingue deficit ostruttivi-restrittiv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- FEF </a:t>
            </a:r>
            <a:r>
              <a:rPr b="0" lang="it-IT" sz="2400" spc="-1" strike="noStrike" baseline="-25000">
                <a:solidFill>
                  <a:srgbClr val="ff0000"/>
                </a:solidFill>
                <a:latin typeface="Times New Roman"/>
              </a:rPr>
              <a:t>25-75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 confermano il profilo ostrut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33cc33"/>
                </a:solidFill>
                <a:latin typeface="Times New Roman"/>
              </a:rPr>
              <a:t>*schema di gravit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&lt; 100/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 80    &gt; 70%  teorico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lie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70%          &gt; 50%  teorico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moder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&lt; 50%                       teorico           =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gra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4038480"/>
            <a:ext cx="7010280" cy="1828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76536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80880" y="30492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Times New Roman"/>
              </a:rPr>
              <a:t>INTERPRETAZIONE DEI PARAMETRI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430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Times New Roman"/>
              </a:rPr>
              <a:t>Alterazione funzionale restrittiv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- CPT caratterizza il deficit e lo quantizza</a:t>
            </a:r>
            <a:r>
              <a:rPr b="0" lang="it-IT" sz="2400" spc="-1" strike="noStrike">
                <a:solidFill>
                  <a:srgbClr val="33cc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- CVF se ridotta con rapporto di FEV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normale / aumentato caratterizza il deficit</a:t>
            </a:r>
            <a:r>
              <a:rPr b="0" lang="it-IT" sz="2400" spc="-1" strike="noStrike" baseline="-25000">
                <a:solidFill>
                  <a:srgbClr val="33cc33"/>
                </a:solidFill>
                <a:latin typeface="Times New Roman"/>
              </a:rPr>
              <a:t>1</a:t>
            </a:r>
            <a:r>
              <a:rPr b="0" lang="it-IT" sz="2400" spc="-1" strike="noStrike">
                <a:solidFill>
                  <a:srgbClr val="33cc33"/>
                </a:solidFill>
                <a:latin typeface="Times New Roman"/>
              </a:rPr>
              <a:t>/CV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it-IT" sz="2400" spc="-1" strike="noStrike">
                <a:solidFill>
                  <a:srgbClr val="ff3300"/>
                </a:solidFill>
                <a:latin typeface="Times New Roman"/>
              </a:rPr>
              <a:t>- FEF </a:t>
            </a:r>
            <a:r>
              <a:rPr b="0" lang="it-IT" sz="2400" spc="-1" strike="noStrike" baseline="-25000">
                <a:solidFill>
                  <a:srgbClr val="ff3300"/>
                </a:solidFill>
                <a:latin typeface="Times New Roman"/>
              </a:rPr>
              <a:t>25-75</a:t>
            </a:r>
            <a:r>
              <a:rPr b="0" lang="it-IT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sono conservati / aumentati nelle forme pu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33cc33"/>
                </a:solidFill>
                <a:latin typeface="Times New Roman"/>
              </a:rPr>
              <a:t>*schema di gravità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&lt; 90%           &gt; 70%      teorico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  =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lie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&lt; 70%            &gt; 60%      teorico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  =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moder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&lt; 60%            &gt; 50%      teorico   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  =          moderatamente gra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&lt; 50%                            teorico      =          gra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4343400"/>
            <a:ext cx="7543800" cy="2209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76536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centri respiratori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struttur</a:t>
            </a:r>
            <a:r>
              <a:rPr b="0" lang="it-IT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incipal</a:t>
            </a:r>
            <a:r>
              <a:rPr b="0" lang="it-IT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deputata al controllo del ritmo respiratorio spontaneo</a:t>
            </a:r>
            <a:r>
              <a:rPr b="0" lang="it-IT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è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 centro respiratorio bulbare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it-IT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l cui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bito sono distinguibili due ragg</a:t>
            </a:r>
            <a:r>
              <a:rPr b="0" lang="it-IT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pamenti neuronali:</a:t>
            </a:r>
            <a:r>
              <a:rPr b="0" lang="it-IT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)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l primo, situato nel nucleo del tratto solitario</a:t>
            </a:r>
            <a:r>
              <a:rPr b="0" lang="it-IT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otato di attività espiratoria;</a:t>
            </a:r>
            <a:r>
              <a:rPr b="0" lang="it-IT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)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l secondo, situato nei nuclei ambiguo e retroambiguo ed è dotato di funzione sia inspiratoria, sia espiratoria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anialmente al centro bulbare sono disposti altri due raggrupppamenti</a:t>
            </a:r>
            <a:r>
              <a:rPr b="0" lang="it-IT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ronali,</a:t>
            </a:r>
            <a:r>
              <a:rPr b="0" lang="it-IT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l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ro pneumotassico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</a:t>
            </a:r>
            <a:r>
              <a:rPr b="0" lang="it-IT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 il</a:t>
            </a:r>
            <a:r>
              <a:rPr b="0" i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entro apneustico</a:t>
            </a:r>
            <a:r>
              <a:rPr b="0" lang="it-IT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che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olano l'attività del centro bulbare sulla base d</a:t>
            </a:r>
            <a:r>
              <a:rPr b="0" lang="it-IT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formazioni fornite da</a:t>
            </a:r>
            <a:r>
              <a:rPr b="0" lang="it-IT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cettori periferic</a:t>
            </a:r>
            <a:r>
              <a:rPr b="0" lang="it-IT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ine, in sede midollare, sono situati i </a:t>
            </a:r>
            <a:r>
              <a:rPr b="0" i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clei dei muscoli respiratori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76536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Times New Roman"/>
              </a:rPr>
              <a:t>SCHEMA QUALITATIVO DI INTERPRETAZIONE SPIROMETRICA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96080" cy="4572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</a:t>
            </a:r>
            <a:r>
              <a:rPr b="0" lang="it-IT" sz="2400" spc="-1" strike="noStrike" u="sng">
                <a:solidFill>
                  <a:srgbClr val="ffffff"/>
                </a:solidFill>
                <a:uFillTx/>
                <a:latin typeface="Times New Roman"/>
              </a:rPr>
              <a:t>PATHOPHYSI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TEST 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OBSTRUCTION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         RESTRICTION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FVC ,litri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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FEV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Times New Roman"/>
              </a:rPr>
              <a:t>1 ,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litri      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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FEV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/FVC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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FEF 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Times New Roman"/>
              </a:rPr>
              <a:t>25-75 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, L/S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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FEF 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Times New Roman"/>
              </a:rPr>
              <a:t>50 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, L/S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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MVV, L/min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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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invariato,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 diminuito,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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 decremento precoce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5486400"/>
            <a:ext cx="7696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3022560"/>
            <a:ext cx="7696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76536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Times New Roman"/>
              </a:rPr>
              <a:t>SCHEMA QUALITATIVO DI INTERPRETAZIONE SPIROMETRICA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610480" cy="472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Times New Roman"/>
              </a:rPr>
              <a:t>PATHOPHYSIOLO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TEST 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       OBSTRUCTION    RESTRICTION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TLC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litri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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VC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litri      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FRC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litri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RV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litri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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aumentato,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 diminuito,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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 decremento precoc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3200400"/>
            <a:ext cx="861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5257800"/>
            <a:ext cx="861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76536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Times New Roman"/>
              </a:rPr>
              <a:t>INTERPRETAZIONE SPIROMETRICA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ALTERAZIONE FUNZIONALE COMBINAT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00"/>
                </a:solidFill>
                <a:latin typeface="Arial"/>
              </a:rPr>
              <a:t>Qualitativa:</a:t>
            </a:r>
            <a:r>
              <a:rPr b="0" lang="it-IT" sz="28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contemporanea riduzione d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CPT    FEV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 / C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cc33"/>
                </a:solidFill>
                <a:latin typeface="Arial"/>
              </a:rPr>
              <a:t>Quantitativa:</a:t>
            </a:r>
            <a:r>
              <a:rPr b="0" lang="it-IT" sz="28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la graduazione deve essere differenziata per le due componen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76536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Times New Roman"/>
              </a:rPr>
              <a:t>Prove di Funzionalità Respiratoria IN ETA’ PEDIATRICA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Le indicazioni alle PFR non differirebbero in bambini e adul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9900"/>
                </a:solidFill>
                <a:latin typeface="Times New Roman"/>
              </a:rPr>
              <a:t>limi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cooperazione del bambi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riproducibilità dei risulta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laboratori / personale specializza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76536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Times New Roman"/>
              </a:rPr>
              <a:t>Prove di Funzionalità Respiratoria</a:t>
            </a:r>
            <a:br>
              <a:rPr sz="4000"/>
            </a:br>
            <a:r>
              <a:rPr b="0" lang="it-IT" sz="3600" spc="-1" strike="noStrike">
                <a:solidFill>
                  <a:srgbClr val="ffffff"/>
                </a:solidFill>
                <a:latin typeface="Times New Roman"/>
              </a:rPr>
              <a:t> IN ETA’ PEDIATRICA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9900"/>
                </a:solidFill>
                <a:latin typeface="Times New Roman"/>
              </a:rPr>
              <a:t>INDICAZIONI PRINCIPAL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"/>
              </a:rPr>
              <a:t>diagnos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cc33"/>
                </a:solidFill>
                <a:latin typeface="Arial"/>
              </a:rPr>
              <a:t>controllo effica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(asma, fibrosi cistic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3300"/>
                </a:solidFill>
                <a:latin typeface="Arial"/>
              </a:rPr>
              <a:t>idoneità sportiv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76536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99640" y="22824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Times New Roman"/>
              </a:rPr>
              <a:t>RESISTENZA DELLE VIE AERE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E’ descritta dalla formula genera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Resistenza= Pressione/Fluss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E’ condizionata 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le progressive suddivisioni bronchial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1749"/>
              </a:spcBef>
              <a:buClr>
                <a:srgbClr val="0080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la collassabilità delle pare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1749"/>
              </a:spcBef>
              <a:buClr>
                <a:srgbClr val="ff99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il volume di riempimento polmon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1749"/>
              </a:spcBef>
              <a:buClr>
                <a:srgbClr val="ffff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il tono broncomot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76536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Times New Roman"/>
              </a:rPr>
              <a:t>RESISTENZA DELLE VIE AERE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Il 90 % della Resistenza corrisponde alle vie di maggior calibr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Le vie periferiche con diametro inferiore a   2 millimetri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sono indicati com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Times New Roman"/>
              </a:rPr>
              <a:t>SILENT ARE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76536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Times New Roman"/>
              </a:rPr>
              <a:t>FISIOPATOLOGIA DELLE VIE RESPIRATORI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La gravità delle affezioni respiratorie è valutata anche attravers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3300"/>
                </a:solidFill>
                <a:latin typeface="Times New Roman"/>
              </a:rPr>
              <a:t>l’emogasanalisi arterios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o </a:t>
            </a:r>
            <a:r>
              <a:rPr b="0" lang="it-IT" sz="3200" spc="-1" strike="noStrike">
                <a:solidFill>
                  <a:srgbClr val="33cc33"/>
                </a:solidFill>
                <a:latin typeface="Times New Roman"/>
              </a:rPr>
              <a:t>la determinazione transcutanea dei gas arteriosi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76536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 strutture periferiche.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 sistema nervoso autonom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 controllo dell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pira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ione è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stituito da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re sistem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a)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eccitatorio"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arasimpatic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inergic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 b)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inibitorio"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impatic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renergic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 c)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on adrenergic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 colinergic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N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che può esercitare azioni spesso opposte, secondo il tipo di mediatore rilasciat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recettori periferici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attraverso il sistema parasimpatico vengono veicolate le principali afferenze derivanti dalla stimolazione dei recettori periferici: a) da stiramento o </a:t>
            </a:r>
            <a:r>
              <a:rPr b="0" i="1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stretch receptors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 b) da irritazione; c) juxtacapillari o "</a:t>
            </a:r>
            <a:r>
              <a:rPr b="0" i="1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 receptors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; d) dei fusi neuromuscolari ed e) degli organi tendinei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 sono poi 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mocettori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a)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l corpo aortico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 b)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l glomo carotideo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posti a segnalare le modificazioni di tipo chimico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riazioni di pH, PaO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 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 PaCO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i cui “segnali”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aggiano lungo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ibre afferenti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ispettivamente nel vago e nel glossofaringe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76536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280" y="151920"/>
            <a:ext cx="83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00"/>
                </a:solidFill>
                <a:latin typeface="Times New Roman"/>
              </a:rPr>
              <a:t>Caratteristiche dei muscoli respiratori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scoli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iati che hanno la peculiarità di essere posti sotto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ntrollo sia volontario sia involontari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ostante posseggano caratteristiche fisiche e metaboliche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alizz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 mantenere una attività ininterrotta lungo tutto il corso della vita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 muscoli respiratori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e gli altri muscoli scheletrici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ono esposti al rischio di affaticament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 manifestazioni cliniche di affaticamento dei muscoli respiratori sono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uttavi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requenti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’opportuna distribuzione del carico ed alla cooperazione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zional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 si realizza tra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 ess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elle diverse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tuazion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linic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-patologiche (insufficienza respiratoria acuta o cronica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76536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Times New Roman"/>
              </a:rPr>
              <a:t>Funzionalità respiratoria nel bambino collaborante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Anche in età pediatrica, la possibilità di eseguire i principali tests di funzionalità respiratoria rappresenta una necessità imprescindibile per la corretta valutazione e gestione del paziente con patologia respirator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Nel bambino con età </a:t>
            </a:r>
            <a:r>
              <a:rPr b="1" lang="it-IT" sz="2800" spc="-1" strike="noStrike" u="sng">
                <a:solidFill>
                  <a:srgbClr val="ffffff"/>
                </a:solidFill>
                <a:uFillTx/>
                <a:latin typeface="Times New Roman"/>
              </a:rPr>
              <a:t>&gt;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 a 5 anni, le tecniche di studio della funzionalità respiratoria sono simili a quelle in uso nel paziente adulto e su basano sulla spirometria, sulla analisi dei dati di flusso, sui test di provocazione bronchiale, sui test da sforzo e sulla valutazione della diffusione alveolo-capillare dei g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76536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iagnosi</a:t>
            </a:r>
            <a:r>
              <a:rPr b="0" lang="it-IT" sz="4000" spc="-1" strike="noStrike">
                <a:solidFill>
                  <a:srgbClr val="ffffff"/>
                </a:solidFill>
                <a:latin typeface="Times New Roman"/>
              </a:rPr>
              <a:t> di asma nei bambini in età pre-scolare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Aft>
                <a:spcPts val="1400"/>
              </a:spcAft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Nei bambini in età pre-scolare le misurazioni della ostruzione bronchiale e della iperreattività delle vie aeree possono essere raccomandate solo come strumenti di “ricerca”, poiché richiedono complessi strumenti e sono di difficile esecuzion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Aft>
                <a:spcPts val="1400"/>
              </a:spcAft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Pertanto prima dei 5 anni di età, la diagnosi d’asma deve basarsi in gran parte su: a) giudizio clinico e b) sul riscontro di sintomi e segni fisici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Aft>
                <a:spcPts val="1400"/>
              </a:spcAft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Un ciclo di trattamento che risulti efficace è probabilmente il sistema migliore per porre diagnosi di asma in questi bambin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9120" y="6386400"/>
            <a:ext cx="393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IH Publication No. 02-3659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ebruary 2002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76536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Times New Roman"/>
              </a:rPr>
              <a:t>CONSEGUENZE FUNZIONALI DELLE MALATTIE POLMONARI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9900"/>
                </a:solidFill>
                <a:latin typeface="Arial"/>
              </a:rPr>
              <a:t>SINDROMI OSTRUT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ostruzione-compression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delle vie aeree prossimali o distal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808000"/>
                </a:solidFill>
                <a:latin typeface="Arial"/>
              </a:rPr>
              <a:t>SINDROMI RESTRIT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pneumopatie diffu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malattie toracopleuric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76536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Times New Roman"/>
              </a:rPr>
              <a:t>FISIOPATOLOGIA DELLE VIE RESPIRATORI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buClr>
                <a:srgbClr val="ff9900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inquadramento fisiologico e clin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buClr>
                <a:srgbClr val="008000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indicazioni ai test di funzionalit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buClr>
                <a:srgbClr val="cc3300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metodolog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buClr>
                <a:srgbClr val="ff00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interpretazione dei dati spirometri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valutazione dell’efficienza respirato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76536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Times New Roman"/>
              </a:rPr>
              <a:t>LO STUDIO FUNZIONALE RESPIRATORIO DI BASE</a:t>
            </a:r>
            <a:r>
              <a:rPr b="1" lang="it-IT" sz="3600" spc="-1" strike="noStrike">
                <a:solidFill>
                  <a:srgbClr val="ff33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9900"/>
                </a:solidFill>
                <a:latin typeface="Times New Roman"/>
              </a:rPr>
              <a:t>VALUT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2001"/>
              </a:spcBef>
              <a:buClr>
                <a:srgbClr val="003366"/>
              </a:buClr>
              <a:buSzPct val="9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I volumi  polmonar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2001"/>
              </a:spcBef>
              <a:buClr>
                <a:srgbClr val="990033"/>
              </a:buClr>
              <a:buSzPct val="9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La dinamica dei fluss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2001"/>
              </a:spcBef>
              <a:buClr>
                <a:srgbClr val="003366"/>
              </a:buClr>
              <a:buSzPct val="9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La resistenza delle vie aer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2001"/>
              </a:spcBef>
              <a:buClr>
                <a:srgbClr val="008000"/>
              </a:buClr>
              <a:buSzPct val="9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La elasticità polmon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2001"/>
              </a:spcBef>
              <a:buClr>
                <a:srgbClr val="990033"/>
              </a:buClr>
              <a:buSzPct val="9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La gravità delle sindromi respirator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76536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0T14:24:34Z</dcterms:created>
  <dc:creator/>
  <dc:description/>
  <dc:language>en-US</dc:language>
  <cp:lastModifiedBy>luca</cp:lastModifiedBy>
  <dcterms:modified xsi:type="dcterms:W3CDTF">2004-03-09T09:28:03Z</dcterms:modified>
  <cp:revision>94</cp:revision>
  <dc:subject/>
  <dc:title/>
</cp:coreProperties>
</file>